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C0ED2F-2E48-4288-A416-C4547819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2D068D-C806-4AEB-94EE-8C2AC938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920" y="4422240"/>
            <a:ext cx="51530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1A188D-0616-47E0-9B81-E8460A1A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AAF26E-3C3E-47BA-B2AA-A1C6B6F6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305EDD-5126-43DD-B5E8-EC433DA6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33CA2C-1351-4ED0-85CA-429CD8376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FFDBFA-198B-435F-AC8B-C3FE7659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6A8E90-022D-4404-8B64-D9A55EAB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F1EC57-B901-44F0-8ACF-8F546B11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8FF003-042D-4175-9AC9-0E338C79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7036C6-3865-4D40-B7E7-B910C4253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538C7C-0054-41C1-97E5-8B699CE4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2BC-03F8-4E0C-A31B-D9B0E23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764-BC8C-4D06-8975-4C34691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F4B-CA48-4DEE-8F0D-2272F513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7A2-2266-4151-B20B-0A45C5DD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400-1545-4C01-AE73-DED1A64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6E9-8A60-4377-AB1A-93A404B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3A3-FB96-4887-BD37-4C9F5C3D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08A-9330-465C-B37B-4302DC2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77F-E0A7-4DA8-95F4-CE50C60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90C-941A-438C-8C84-B2CBA8C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E52-052E-4DF9-8B0A-05B170AA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C9A-48B9-40D5-8D20-F37C046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796-FDF9-449C-85A1-8D0C961D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c.gc.ca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49" name="Picture 8" descr="CASIP Insignia.jpg"/>
          <p:cNvPicPr/>
          <p:nvPr/>
        </p:nvPicPr>
        <p:blipFill>
          <a:blip r:embed="rId1"/>
          <a:stretch/>
        </p:blipFill>
        <p:spPr>
          <a:xfrm>
            <a:off x="380880" y="914400"/>
            <a:ext cx="302256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66680" y="3048120"/>
            <a:ext cx="7239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Employer Services Network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Understanding Sector Partnerships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Aleksandra Walczak, Project Manager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July 30, 2012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1" name="Picture 6" descr="CI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6172200"/>
            <a:ext cx="2819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914400" y="9144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7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Factors for Succes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9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Diagram 14" descr=""/>
          <p:cNvPicPr/>
          <p:nvPr/>
        </p:nvPicPr>
        <p:blipFill>
          <a:blip r:embed="rId3"/>
          <a:stretch/>
        </p:blipFill>
        <p:spPr>
          <a:xfrm>
            <a:off x="682560" y="1378080"/>
            <a:ext cx="7705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Stakeholder roles and responsibilities are clearly delineated and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boration is formalized through protocols and partnership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Training and professional development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Cultivating team spirit builds trust and fosters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onsibilities are integrated into performance measurement and 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ment opportunities may be referred from exter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ers are given opportunities for in pers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ultative management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exibility and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Best Practice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7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fo@casip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855-CASIP-9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@CASIP_E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SIP Employer Services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 Black"/>
              </a:rPr>
              <a:t>How to reach u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8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awalczak\My Documents\Technical\twitter.png"/>
          <p:cNvPicPr/>
          <p:nvPr/>
        </p:nvPicPr>
        <p:blipFill>
          <a:blip r:embed="rId3"/>
          <a:stretch/>
        </p:blipFill>
        <p:spPr>
          <a:xfrm>
            <a:off x="27432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C:\Documents and Settings\awalczak\My Documents\Technical\linkedin.png"/>
          <p:cNvPicPr/>
          <p:nvPr/>
        </p:nvPicPr>
        <p:blipFill>
          <a:blip r:embed="rId4"/>
          <a:stretch/>
        </p:blipFill>
        <p:spPr>
          <a:xfrm>
            <a:off x="9907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nsortium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f independent, community-based agencies and colleges who deliver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employm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services to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internationally-trained</a:t>
            </a:r>
            <a:r>
              <a:rPr b="1" lang="en-US" sz="2400" spc="-1" strike="noStrike">
                <a:solidFill>
                  <a:srgbClr val="3399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seekers and to employers in th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G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orking together sinc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1998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e share our experience, expertise and resources to impro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ogether we  serve over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70,00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wcomers per year – and some of our organizations have been doing this for over 60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838080" y="8380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Background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6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934320" y="6248520"/>
            <a:ext cx="22096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3520" y="914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5800" y="3352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5800" y="4648320"/>
            <a:ext cx="1663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0" name="Picture 12" descr="costi"/>
          <p:cNvPicPr/>
          <p:nvPr/>
        </p:nvPicPr>
        <p:blipFill>
          <a:blip r:embed="rId1"/>
          <a:stretch/>
        </p:blipFill>
        <p:spPr>
          <a:xfrm>
            <a:off x="1219320" y="2209680"/>
            <a:ext cx="190476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humber logo"/>
          <p:cNvPicPr/>
          <p:nvPr/>
        </p:nvPicPr>
        <p:blipFill>
          <a:blip r:embed="rId2"/>
          <a:stretch/>
        </p:blipFill>
        <p:spPr>
          <a:xfrm>
            <a:off x="1066680" y="3505320"/>
            <a:ext cx="236232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job-start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59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Seneca Logo"/>
          <p:cNvPicPr/>
          <p:nvPr/>
        </p:nvPicPr>
        <p:blipFill>
          <a:blip r:embed="rId4"/>
          <a:stretch/>
        </p:blipFill>
        <p:spPr>
          <a:xfrm>
            <a:off x="5410080" y="3581280"/>
            <a:ext cx="2210040" cy="62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Memb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5" name="Picture 20" descr="CASIP Logo.gif"/>
          <p:cNvPicPr/>
          <p:nvPr/>
        </p:nvPicPr>
        <p:blipFill>
          <a:blip r:embed="rId5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ACCES Logo.gif"/>
          <p:cNvPicPr/>
          <p:nvPr/>
        </p:nvPicPr>
        <p:blipFill>
          <a:blip r:embed="rId6"/>
          <a:stretch/>
        </p:blipFill>
        <p:spPr>
          <a:xfrm>
            <a:off x="1066680" y="914400"/>
            <a:ext cx="495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MS Logo for Website.bmp"/>
          <p:cNvPicPr/>
          <p:nvPr/>
        </p:nvPicPr>
        <p:blipFill>
          <a:blip r:embed="rId7"/>
          <a:stretch/>
        </p:blipFill>
        <p:spPr>
          <a:xfrm>
            <a:off x="5105520" y="2209680"/>
            <a:ext cx="32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JVS Logo.gif"/>
          <p:cNvPicPr/>
          <p:nvPr/>
        </p:nvPicPr>
        <p:blipFill>
          <a:blip r:embed="rId8"/>
          <a:stretch/>
        </p:blipFill>
        <p:spPr>
          <a:xfrm>
            <a:off x="5638680" y="83808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SkillsForChange New Logs.gif"/>
          <p:cNvPicPr/>
          <p:nvPr/>
        </p:nvPicPr>
        <p:blipFill>
          <a:blip r:embed="rId9"/>
          <a:stretch/>
        </p:blipFill>
        <p:spPr>
          <a:xfrm>
            <a:off x="5181480" y="4572000"/>
            <a:ext cx="3581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629400" y="6248520"/>
            <a:ext cx="25146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 Mentoring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nadian Workplac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oordinated Job Development (CASIP E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ridg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Fairs / Jus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Recent examples of Joint Initiatives 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89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:\Documents and Settings\awalczak\Local Settings\Temporary Internet Files\Content.IE5\N2VOMPVX\MC900230642[1].wmf"/>
          <p:cNvPicPr/>
          <p:nvPr/>
        </p:nvPicPr>
        <p:blipFill>
          <a:blip r:embed="rId3"/>
          <a:stretch/>
        </p:blipFill>
        <p:spPr>
          <a:xfrm>
            <a:off x="2514600" y="4114800"/>
            <a:ext cx="36021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Full suite of human resour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Pre-screened job ready profession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ordinated access point to diverse and qualified tale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re group of 23 Job Developers with specialize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Monthly meetings and job shar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Over 70 Job Developers in expand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Sector-specific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Tailored recruitment, networking &amp; mentorship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Hotline an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ntique Olive Roman"/>
              </a:rPr>
              <a:t>Services Offered to Employers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0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suite of employment service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tor specific bridging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nguage training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rdinated access to 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Services Offered to Job-Seek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Documents and Settings\awalczak\Local Settings\Temporary Internet Files\Content.IE5\UL38QTQ7\MP900422989[1].jpg"/>
          <p:cNvPicPr/>
          <p:nvPr/>
        </p:nvPicPr>
        <p:blipFill>
          <a:blip r:embed="rId3"/>
          <a:stretch/>
        </p:blipFill>
        <p:spPr>
          <a:xfrm>
            <a:off x="6477120" y="3352680"/>
            <a:ext cx="1904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2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762120"/>
          <a:ext cx="9144000" cy="64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tween April 2011 to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26 employers referred into CASIP E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711 positions on ou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927 ITIs with increased access to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 100 were interviewed at our last Recruitment Event al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uccesses to Dat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37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 have contributed to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ork for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What about you?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48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9:57:13Z</dcterms:created>
  <dc:creator>Mary</dc:creator>
  <dc:description/>
  <dc:language>en-US</dc:language>
  <cp:lastModifiedBy>gp</cp:lastModifiedBy>
  <dcterms:modified xsi:type="dcterms:W3CDTF">2012-08-02T20:40:00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GahKGu_ZmFInjm_DZ8BtnaUrTJTy9uf5ldqkHZmDQdg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330907432194805424</vt:lpwstr>
  </property>
  <property fmtid="{D5CDD505-2E9C-101B-9397-08002B2CF9AE}" pid="6" name="Google.Documents.Tracking">
    <vt:lpwstr>true</vt:lpwstr>
  </property>
</Properties>
</file>